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1AEE-35CE-4400-9001-C0FB1B40A6D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C9F75-890C-48DA-9E70-C05521C3B9A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523F-A871-4C02-8D67-D885C0F4189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mployment Programs and Services – Getting Back to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u="sng">
                <a:solidFill>
                  <a:srgbClr val="000000"/>
                </a:solidFill>
                <a:uFillTx/>
                <a:latin typeface="Arial"/>
              </a:rPr>
              <a:t>http://www.hrsdc.gc.ca/en/epb/sid/cia/grants/eas/desc_ea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200" spc="-1" strike="noStrike">
                <a:solidFill>
                  <a:srgbClr val="000000"/>
                </a:solidFill>
                <a:latin typeface="Arial"/>
              </a:rPr>
              <a:t>Employment Services and programs are designed t</a:t>
            </a:r>
            <a:r>
              <a:rPr b="0" i="1" lang="en-CA" sz="1200" spc="-1" strike="noStrike">
                <a:solidFill>
                  <a:srgbClr val="000000"/>
                </a:solidFill>
                <a:latin typeface="Arial"/>
              </a:rPr>
              <a:t>o assist unemployed individuals prepare for, obtain and maintain employment by providing them with services such as employment counselling, job search techniques, job placement, training courses in areas of labour market demand, and labour market information.</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heard that Employment Ontario/MTCU has received a large volume of applications.  You need to work with your counsellor at your assessment centre to set realistic training goals.  We also encourage you to explore other employment programs and services to help with your search for new 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E1968-7E0A-46ED-A871-FF8743266FA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F1AA-DA4F-4E52-BA60-D9260240DA8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5FD98-CC69-4DF1-B66E-738A10CB393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AB2F-91EF-490B-AC7A-FDAACC29A96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53C0-9E08-4A87-A1CB-7543767014E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ADDB-94D7-4060-9C5E-D8EEF5AE03B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CA8D-1FB8-4345-AF4C-776F32655E4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05F87-492E-418C-8284-B460DCC5907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A93A7-65D4-4EC0-B5F9-6B8B19A8771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E77F-EF5C-4D3C-AD67-7F39EF3A697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recognize many of the services and programs listed here for job seekers as these are the same ones the Service Canada previously offered.  The names have changed, but the objective of the programs has no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EA07-C4F8-4F05-8A46-4CB9E44868E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ED51-DFFD-4EA3-B63F-0D782265F17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A2A8-6880-4071-AE50-4D0C8C28057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CEAFC-E477-4162-9EEA-7E1C657EA2F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find service in your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est method to find assistance getting back to work is to look at the Ontario website under Services Where You Live.  You can enter in the name of the town or city closest to you and even select the type of program you are seeking  i.e. Job Finding club.  The website will give you a list of service providers, their location, contact number and a description of their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B124E-D4A1-40FF-8E59-4412B0A0784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C74E-1D90-49AC-AD99-212CEC4BA40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80623-5DB7-4EC0-9E53-DBB53F86EB8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1C67-5773-4139-9EFF-D83A4F5E930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51F90-3BFB-4456-9F1C-13FF6531B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7CD6F-ADA5-493D-801D-A7CFA5BD9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3AC9C-06C5-43CF-A40D-EE8C2D789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56680-1B53-419C-8EE8-C10A9C91C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B5910-16C6-4466-867B-9463E64A7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88A87-476A-43F9-BE25-A2E88A13F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64E21-676B-4C62-94C2-F044828DA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3F626-84DF-4231-A8ED-2FF54953A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34AF3-D55B-4CC5-87AB-603E64B29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D3BD3-1B0B-4F5C-92BE-BA1ED8D95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81D50-3959-41B1-9906-7226AE4A9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102AC-5582-4BE1-BB99-DEA2EFF1B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DB6E-9EB6-4F97-B6CC-50F604C9002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8"/>
          <p:cNvGrpSpPr/>
          <p:nvPr/>
        </p:nvGrpSpPr>
        <p:grpSpPr>
          <a:xfrm>
            <a:off x="0" y="0"/>
            <a:ext cx="9140760" cy="287280"/>
            <a:chOff x="0" y="0"/>
            <a:chExt cx="9140760" cy="287280"/>
          </a:xfrm>
        </p:grpSpPr>
        <p:sp>
          <p:nvSpPr>
            <p:cNvPr id="6" name="Rectangle 9"/>
            <p:cNvSpPr/>
            <p:nvPr/>
          </p:nvSpPr>
          <p:spPr>
            <a:xfrm>
              <a:off x="0" y="0"/>
              <a:ext cx="3059280" cy="287280"/>
            </a:xfrm>
            <a:prstGeom prst="rect">
              <a:avLst/>
            </a:prstGeom>
            <a:solidFill>
              <a:srgbClr val="ccae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0"/>
            <p:cNvSpPr/>
            <p:nvPr/>
          </p:nvSpPr>
          <p:spPr>
            <a:xfrm>
              <a:off x="3060720" y="0"/>
              <a:ext cx="3058920" cy="287280"/>
            </a:xfrm>
            <a:prstGeom prst="rect">
              <a:avLst/>
            </a:prstGeom>
            <a:solidFill>
              <a:srgbClr val="4617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6119640" y="0"/>
              <a:ext cx="3021120" cy="287280"/>
            </a:xfrm>
            <a:prstGeom prst="rect">
              <a:avLst/>
            </a:prstGeom>
            <a:solidFill>
              <a:srgbClr val="94224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edu.gov.on.ca/fre/tcu/employmentontario/"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2130480"/>
            <a:ext cx="7924680" cy="297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CA" sz="3200" spc="-1" strike="noStrike">
                <a:solidFill>
                  <a:srgbClr val="000000"/>
                </a:solidFill>
                <a:latin typeface="Arial"/>
              </a:rPr>
              <a:t>Programmes et services </a:t>
            </a:r>
            <a:br>
              <a:rPr sz="3200"/>
            </a:br>
            <a:r>
              <a:rPr b="1" lang="fr-CA" sz="3200" spc="-1" strike="noStrike">
                <a:solidFill>
                  <a:srgbClr val="000000"/>
                </a:solidFill>
                <a:latin typeface="Arial"/>
              </a:rPr>
              <a:t>EMPLOI ONTARIO</a:t>
            </a:r>
            <a:endParaRPr b="0" lang="en-US" sz="3200" spc="-1" strike="noStrike">
              <a:solidFill>
                <a:srgbClr val="000000"/>
              </a:solidFill>
              <a:latin typeface="Arial"/>
            </a:endParaRPr>
          </a:p>
        </p:txBody>
      </p:sp>
      <p:pic>
        <p:nvPicPr>
          <p:cNvPr id="53" name="Picture 5" descr="People button without logo"/>
          <p:cNvPicPr/>
          <p:nvPr/>
        </p:nvPicPr>
        <p:blipFill>
          <a:blip r:embed="rId1"/>
          <a:stretch/>
        </p:blipFill>
        <p:spPr>
          <a:xfrm>
            <a:off x="533520" y="609480"/>
            <a:ext cx="8100720" cy="1711440"/>
          </a:xfrm>
          <a:prstGeom prst="rect">
            <a:avLst/>
          </a:prstGeom>
          <a:ln w="57240">
            <a:solidFill>
              <a:srgbClr val="cc0066"/>
            </a:solidFill>
            <a:miter/>
          </a:ln>
        </p:spPr>
      </p:pic>
      <p:pic>
        <p:nvPicPr>
          <p:cNvPr id="54" name="Picture 6" descr="RedFr-Tag"/>
          <p:cNvPicPr/>
          <p:nvPr/>
        </p:nvPicPr>
        <p:blipFill>
          <a:blip r:embed="rId2"/>
          <a:stretch/>
        </p:blipFill>
        <p:spPr>
          <a:xfrm>
            <a:off x="914400" y="533520"/>
            <a:ext cx="2664000" cy="130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es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4" descr="Eastern-markers"/>
          <p:cNvPicPr/>
          <p:nvPr/>
        </p:nvPicPr>
        <p:blipFill>
          <a:blip r:embed="rId1"/>
          <a:stretch/>
        </p:blipFill>
        <p:spPr>
          <a:xfrm>
            <a:off x="-57240" y="1147680"/>
            <a:ext cx="9258480" cy="6097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oues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4" descr="West"/>
          <p:cNvPicPr/>
          <p:nvPr/>
        </p:nvPicPr>
        <p:blipFill>
          <a:blip r:embed="rId1"/>
          <a:stretch/>
        </p:blipFill>
        <p:spPr>
          <a:xfrm>
            <a:off x="412920" y="1366920"/>
            <a:ext cx="8731080" cy="5038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offre aux travailleuses et travailleurs mis à pied</a:t>
            </a:r>
            <a:r>
              <a:rPr b="1" lang="fr-CA" sz="1800" spc="-1" strike="noStrike">
                <a:solidFill>
                  <a:srgbClr val="000000"/>
                </a:solidFill>
                <a:latin typeface="Calibri"/>
              </a:rPr>
              <a:t> </a:t>
            </a:r>
            <a:r>
              <a:rPr b="1" lang="fr-CA" sz="1800" spc="-1" strike="noStrike">
                <a:solidFill>
                  <a:srgbClr val="000000"/>
                </a:solidFill>
                <a:latin typeface="Arial"/>
              </a:rPr>
              <a:t>:</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formation professionnelle pour les aider à décrocher un emploi dans un domaine en demande en Ontario;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financièr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accorde </a:t>
            </a:r>
            <a:r>
              <a:rPr b="1" lang="fr-CA" sz="1800" spc="-1" strike="noStrike" u="sng">
                <a:solidFill>
                  <a:srgbClr val="000000"/>
                </a:solidFill>
                <a:uFillTx/>
                <a:latin typeface="Arial"/>
              </a:rPr>
              <a:t>un maximum</a:t>
            </a:r>
            <a:r>
              <a:rPr b="1" lang="fr-CA" sz="1800" spc="-1" strike="noStrike">
                <a:solidFill>
                  <a:srgbClr val="000000"/>
                </a:solidFill>
                <a:latin typeface="Arial"/>
              </a:rPr>
              <a:t> de 28 000 $ pour payer</a:t>
            </a:r>
            <a:r>
              <a:rPr b="1" lang="fr-CA" sz="1800" spc="-1" strike="noStrike">
                <a:solidFill>
                  <a:srgbClr val="000000"/>
                </a:solidFill>
                <a:latin typeface="Calibri"/>
              </a:rPr>
              <a:t> </a:t>
            </a:r>
            <a:r>
              <a:rPr b="1" lang="fr-CA" sz="1800" spc="-1" strike="noStrike">
                <a:solidFill>
                  <a:srgbClr val="000000"/>
                </a:solidFill>
                <a:latin typeface="Arial"/>
              </a:rPr>
              <a: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scolarité;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manuel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autres frais d’enseignement comme les manuels ou les cahiers d’exercice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transpor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oûts de subsistance de bas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est une subvention à frais partagés</a:t>
            </a:r>
            <a:r>
              <a:rPr b="0" lang="fr-CA" sz="1800" spc="-1" strike="noStrike">
                <a:solidFill>
                  <a:srgbClr val="000000"/>
                </a:solidFill>
                <a:latin typeface="Arial"/>
              </a:rPr>
              <a:t> fournie en fonction des besoins; vous aurez donc à contribuer à votre éducation en fonction de vos besoins.</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supplémentaire est disponible pour les personnes handicapées ayant besoin d’adaptations, et pour les soins de garde de personnes à char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82" name="PlaceHolder 2"/>
          <p:cNvSpPr>
            <a:spLocks noGrp="1"/>
          </p:cNvSpPr>
          <p:nvPr>
            <p:ph/>
          </p:nvPr>
        </p:nvSpPr>
        <p:spPr>
          <a:xfrm>
            <a:off x="684000" y="1267920"/>
            <a:ext cx="7869240" cy="504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s’adresse-t-il à mo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êtes admissible à Deuxième carrière si vou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z été licencié après le 1</a:t>
            </a:r>
            <a:r>
              <a:rPr b="0" lang="fr-CA" sz="1800" spc="-1" strike="noStrike" baseline="30000">
                <a:solidFill>
                  <a:srgbClr val="000000"/>
                </a:solidFill>
                <a:latin typeface="Arial"/>
              </a:rPr>
              <a:t>er</a:t>
            </a:r>
            <a:r>
              <a:rPr b="0" lang="fr-CA" sz="1800" spc="-1" strike="noStrike">
                <a:solidFill>
                  <a:srgbClr val="000000"/>
                </a:solidFill>
                <a:latin typeface="Arial"/>
              </a:rPr>
              <a:t> janvier 2005;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êtes sans emploi ou avez un travail provisoi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décidez de réorienter votre carrière vers un domaine en deman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uxième carrière aide les personnes licenciées dans le besoin qui bénéficieraient le plus d’une formation pour obtenir un emploi. Plusieurs facteurs entrent en ligne de compte lors de l’attribution des subven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Recherche active d’un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ongueur de la période sans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iveau de scolarité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xpérience professionnel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erspectives du marché du travai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mande de form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mpétences professionnelles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our accéder à Deuxième carrière</a:t>
            </a:r>
            <a:endParaRPr b="0" lang="en-US" sz="36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doivent se rendre sur le site d’Emploi Ontari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seront invités à assister à une réunion d’information ou à rencontrer une conseillère ou un conseiller en emploi afin d’évaluer leur admissibilité au programme et si celui-ci leur convi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qu’un client décide d’aller de l’avant, il commencera à préparer son dossier avec l’organisme afin de le présenter au MFCU. Cela comprend une évaluation financière avec la conseillère ou le conseill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processus de préparation du dossier avec l’organisme peut exiger plusieurs semai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e fois que le dossier est transmis au MFCU, celui-ci est étudié, les dispositions financières sont déterminées et le client est convoqué afin de signer l’entente (la durée maximale du processus est de 10 jou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ministère versera une allocation de subsistance aux personnes admissibles qui ne sont pas prestataires de l’A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rogrammes d’apprentissage</a:t>
            </a:r>
            <a:endParaRPr b="0" lang="en-US" sz="3600" spc="-1" strike="noStrike">
              <a:solidFill>
                <a:srgbClr val="000000"/>
              </a:solidFill>
              <a:latin typeface="Arial"/>
            </a:endParaRPr>
          </a:p>
        </p:txBody>
      </p:sp>
      <p:sp>
        <p:nvSpPr>
          <p:cNvPr id="86" name="PlaceHolder 2"/>
          <p:cNvSpPr>
            <a:spLocks noGrp="1"/>
          </p:cNvSpPr>
          <p:nvPr>
            <p:ph/>
          </p:nvPr>
        </p:nvSpPr>
        <p:spPr>
          <a:xfrm>
            <a:off x="468360" y="1484280"/>
            <a:ext cx="8229600" cy="4176720"/>
          </a:xfrm>
          <a:prstGeom prst="rect">
            <a:avLst/>
          </a:prstGeom>
          <a:noFill/>
          <a:ln w="0">
            <a:noFill/>
          </a:ln>
        </p:spPr>
        <p:txBody>
          <a:bodyPr anchor="t">
            <a:normAutofit fontScale="86000"/>
          </a:bodyPr>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alliant la formation en milieu de travail à celle en milieu scolaire, la formation en apprentissage mène à la pratique d’un métier spécialisé. En moyenne, 90</a:t>
            </a:r>
            <a:r>
              <a:rPr b="0" lang="fr-CA" sz="1800" spc="-1" strike="noStrike">
                <a:solidFill>
                  <a:srgbClr val="000000"/>
                </a:solidFill>
                <a:latin typeface="Calibri"/>
              </a:rPr>
              <a:t> </a:t>
            </a:r>
            <a:r>
              <a:rPr b="0" lang="fr-CA" sz="1800" spc="-1" strike="noStrike">
                <a:solidFill>
                  <a:srgbClr val="000000"/>
                </a:solidFill>
                <a:latin typeface="Arial"/>
              </a:rPr>
              <a:t>% de la formation a lieu en milieu de travail, et elle donnée par des travailleuses ou des travailleurs qualifiés. Le reste de la formation a lieu dans un collège d’arts appliqués et de technologie</a:t>
            </a:r>
            <a:r>
              <a:rPr b="1" lang="fr-CA" sz="1800" spc="-1" strike="noStrike">
                <a:solidFill>
                  <a:srgbClr val="000000"/>
                </a:solidFill>
                <a:latin typeface="Arial"/>
              </a:rPr>
              <a:t> </a:t>
            </a:r>
            <a:r>
              <a:rPr b="0" lang="fr-CA" sz="1800" spc="-1" strike="noStrike">
                <a:solidFill>
                  <a:srgbClr val="000000"/>
                </a:solidFill>
                <a:latin typeface="Arial"/>
              </a:rPr>
              <a:t>ou est donné par un autre fournisseur de formation approuvé.</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a formation en apprentissage existe pour plus de 150 métiers spécialisés répartis dans quatre secteurs</a:t>
            </a:r>
            <a:r>
              <a:rPr b="0" lang="fr-CA" sz="1800" spc="-1" strike="noStrike">
                <a:solidFill>
                  <a:srgbClr val="000000"/>
                </a:solidFill>
                <a:latin typeface="Calibri"/>
              </a:rPr>
              <a:t> </a:t>
            </a:r>
            <a:r>
              <a:rPr b="0" lang="fr-CA" sz="1800" spc="-1" strike="noStrike">
                <a:solidFill>
                  <a:srgbClr val="000000"/>
                </a:solidFill>
                <a:latin typeface="Arial"/>
              </a:rPr>
              <a:t>: la construction, le secteur industriel/de la fabrication, les transports motorisés et les services.</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Ontario, on compte plus de 120</a:t>
            </a:r>
            <a:r>
              <a:rPr b="0" lang="fr-CA" sz="1800" spc="-1" strike="noStrike">
                <a:solidFill>
                  <a:srgbClr val="000000"/>
                </a:solidFill>
                <a:latin typeface="Calibri"/>
              </a:rPr>
              <a:t> </a:t>
            </a:r>
            <a:r>
              <a:rPr b="0" lang="fr-CA" sz="1800" spc="-1" strike="noStrike">
                <a:solidFill>
                  <a:srgbClr val="000000"/>
                </a:solidFill>
                <a:latin typeface="Arial"/>
              </a:rPr>
              <a:t>000</a:t>
            </a:r>
            <a:r>
              <a:rPr b="0" lang="fr-CA" sz="1800" spc="-1" strike="noStrike">
                <a:solidFill>
                  <a:srgbClr val="000000"/>
                </a:solidFill>
                <a:latin typeface="Calibri"/>
              </a:rPr>
              <a:t> </a:t>
            </a:r>
            <a:r>
              <a:rPr b="0" lang="fr-CA" sz="1800" spc="-1" strike="noStrike">
                <a:solidFill>
                  <a:srgbClr val="000000"/>
                </a:solidFill>
                <a:latin typeface="Arial"/>
              </a:rPr>
              <a:t>apprenties et apprentis qui apprennent un métier, et il faut généralement entre deux et cinq ans pour terminer la formation scolaire et la formation professionnelle nécessaires à l’obtention du titre de compagne ou de compagnon. </a:t>
            </a:r>
            <a:endParaRPr b="0" lang="en-US" sz="1800" spc="-1" strike="noStrike">
              <a:solidFill>
                <a:srgbClr val="000000"/>
              </a:solidFill>
              <a:latin typeface="Arial"/>
            </a:endParaRPr>
          </a:p>
          <a:p>
            <a:pPr marL="294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c ou sans prestations d’A-E, les apprenties et apprentis peuvent être admissibles à un soutien financier pour la formation scolaire et aux incitatifs gouvernementaux pour la compléter.</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s programmes sont offerts par une variété d’organismes, comme les collèges et les fournisseurs de formation en apprentissage approuvés. On peut trouver les programmes offerts localement en appelant la ligne d’information Emploi Ontario</a:t>
            </a:r>
            <a:r>
              <a:rPr b="0" lang="fr-CA" sz="1800" spc="-1" strike="noStrike">
                <a:solidFill>
                  <a:srgbClr val="000000"/>
                </a:solidFill>
                <a:latin typeface="Calibri"/>
              </a:rPr>
              <a:t> </a:t>
            </a:r>
            <a:r>
              <a:rPr b="0" lang="fr-CA" sz="1800" spc="-1" strike="noStrike">
                <a:solidFill>
                  <a:srgbClr val="000000"/>
                </a:solidFill>
                <a:latin typeface="Arial"/>
              </a:rPr>
              <a:t>au 1</a:t>
            </a:r>
            <a:r>
              <a:rPr b="0" lang="fr-CA" sz="1800" spc="-1" strike="noStrike">
                <a:solidFill>
                  <a:srgbClr val="000000"/>
                </a:solidFill>
                <a:latin typeface="Calibri"/>
              </a:rPr>
              <a:t> </a:t>
            </a:r>
            <a:r>
              <a:rPr b="0" lang="fr-CA" sz="1800" spc="-1" strike="noStrike">
                <a:solidFill>
                  <a:srgbClr val="000000"/>
                </a:solidFill>
                <a:latin typeface="Arial"/>
              </a:rPr>
              <a:t>800</a:t>
            </a:r>
            <a:r>
              <a:rPr b="0" lang="fr-CA" sz="1800" spc="-1" strike="noStrike">
                <a:solidFill>
                  <a:srgbClr val="000000"/>
                </a:solidFill>
                <a:latin typeface="Calibri"/>
              </a:rPr>
              <a:t> </a:t>
            </a:r>
            <a:r>
              <a:rPr b="0" lang="fr-CA" sz="1800" spc="-1" strike="noStrike">
                <a:solidFill>
                  <a:srgbClr val="000000"/>
                </a:solidFill>
                <a:latin typeface="Arial"/>
              </a:rPr>
              <a:t>387­56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itiative ciblée pour les travailleurs âgés</a:t>
            </a:r>
            <a:r>
              <a:rPr b="1" lang="en-CA" sz="3200" spc="-1" strike="noStrike">
                <a:solidFill>
                  <a:srgbClr val="000000"/>
                </a:solidFill>
                <a:latin typeface="Arial"/>
              </a:rPr>
              <a:t> </a:t>
            </a:r>
            <a:r>
              <a:rPr b="0" lang="en-CA" sz="3200" spc="-1" strike="noStrike">
                <a:solidFill>
                  <a:srgbClr val="000000"/>
                </a:solidFill>
                <a:latin typeface="Arial"/>
              </a:rPr>
              <a:t>(L’ICTA)</a:t>
            </a:r>
            <a:endParaRPr b="0" lang="en-US" sz="3200" spc="-1" strike="noStrike">
              <a:solidFill>
                <a:srgbClr val="000000"/>
              </a:solidFill>
              <a:latin typeface="Arial"/>
            </a:endParaRPr>
          </a:p>
        </p:txBody>
      </p:sp>
      <p:sp>
        <p:nvSpPr>
          <p:cNvPr id="88" name="PlaceHolder 2"/>
          <p:cNvSpPr>
            <a:spLocks noGrp="1"/>
          </p:cNvSpPr>
          <p:nvPr>
            <p:ph/>
          </p:nvPr>
        </p:nvSpPr>
        <p:spPr>
          <a:xfrm>
            <a:off x="304920" y="13716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initiative vise à aider les travailleurs âgés au moyen de programmes qui accroissent leur employabilité, les réintègrent au marché du travail et font en sorte qu'ils demeurent des travailleurs actifs et productifs pendant que leurs collectivités font l'objet d'ajus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Qui peut participer à </a:t>
            </a:r>
            <a:r>
              <a:rPr b="0" lang="en-CA" sz="3200" spc="-1" strike="noStrike">
                <a:solidFill>
                  <a:srgbClr val="000000"/>
                </a:solidFill>
                <a:latin typeface="Arial"/>
              </a:rPr>
              <a:t>L’ICTA</a:t>
            </a:r>
            <a:r>
              <a:rPr b="0" lang="en-CA" sz="3600" spc="-1" strike="noStrike">
                <a:solidFill>
                  <a:srgbClr val="000000"/>
                </a:solidFill>
                <a:latin typeface="Arial"/>
              </a:rPr>
              <a:t>?</a:t>
            </a:r>
            <a:br>
              <a:rPr sz="3600"/>
            </a:b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initiative ciblée pour les travailleurs âgés s'adresse aux clients qu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âgés de 55 à 64 a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sans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légalement autorisés à travailler au Canad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nt pas toutes les compétences nécessaires pour occuper un nouvel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ivent dans une collectivité vulnérable, dont le taux de chômage est élevé, qui dépend largement d'un seul employeur ou d'une seule industrie et dont la population se chiffre à 250 000 habitants ou moi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360"/>
            <a:ext cx="82296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CA" sz="2400" spc="-1" strike="noStrike">
                <a:solidFill>
                  <a:srgbClr val="000000"/>
                </a:solidFill>
                <a:latin typeface="Arial"/>
              </a:rPr>
              <a:t>ALPHABÉTISATION ET FORMATION DE BASE / </a:t>
            </a:r>
            <a:br>
              <a:rPr sz="2400"/>
            </a:br>
            <a:r>
              <a:rPr b="1" lang="fr-CA" sz="2400" spc="-1" strike="noStrike">
                <a:solidFill>
                  <a:srgbClr val="000000"/>
                </a:solidFill>
                <a:latin typeface="Arial"/>
              </a:rPr>
              <a:t>RATTRAPAGE SCOLAIRE</a:t>
            </a:r>
            <a:endParaRPr b="0" lang="en-US" sz="2400" spc="-1" strike="noStrike">
              <a:solidFill>
                <a:srgbClr val="000000"/>
              </a:solidFill>
              <a:latin typeface="Arial"/>
            </a:endParaRPr>
          </a:p>
        </p:txBody>
      </p:sp>
      <p:sp>
        <p:nvSpPr>
          <p:cNvPr id="92" name="PlaceHolder 2"/>
          <p:cNvSpPr>
            <a:spLocks noGrp="1"/>
          </p:cNvSpPr>
          <p:nvPr>
            <p:ph/>
          </p:nvPr>
        </p:nvSpPr>
        <p:spPr>
          <a:xfrm>
            <a:off x="250920" y="1125000"/>
            <a:ext cx="8642160" cy="52563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a:solidFill>
                  <a:srgbClr val="000000"/>
                </a:solidFill>
                <a:latin typeface="Arial"/>
              </a:rPr>
              <a:t>Le Programme d’alphabétisation et de formation de base (AFB) du gouvernement de l’Ontario fournit des services de littératie, de numératie et d’acquisition des compétences essentielles afin de permettre aux personnes d’atteindre les objectifs qu’elles se sont fixées en matière d’éducation, de formation et d’emploi et de jouir d’une plus grande autonomie.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els services sont offerts?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u programme AFB sont fournis gratuitement aux personnes dont les compétences essentielles en lecture, en écriture et en mathématiques sont inférieures au niveau de la 12</a:t>
            </a:r>
            <a:r>
              <a:rPr b="0" lang="fr-CA" sz="1400" spc="-1" strike="noStrike" baseline="30000">
                <a:solidFill>
                  <a:srgbClr val="000000"/>
                </a:solidFill>
                <a:latin typeface="Arial"/>
              </a:rPr>
              <a:t>e</a:t>
            </a:r>
            <a:r>
              <a:rPr b="0" lang="fr-CA" sz="1400" spc="-1" strike="noStrike">
                <a:solidFill>
                  <a:srgbClr val="000000"/>
                </a:solidFill>
                <a:latin typeface="Arial"/>
              </a:rPr>
              <a:t> année. Ces services sont offerts par les conseils scolaires, les organismes communautaires et les collèges.</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fournit aussi des services de rattrapage scolaire pour aider les personnes à accéder à une éducation postsecondaire ou à une formation en apprentissag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mploi Ontario peut vous aider à établir des objectifs de rattrapage et à élaborer un plan de formation.</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lusieurs options de formation sont offertes pour adapter votre formation à votre emploi du temps</a:t>
            </a:r>
            <a:r>
              <a:rPr b="0" lang="fr-CA" sz="1400" spc="-1" strike="noStrike">
                <a:solidFill>
                  <a:srgbClr val="000000"/>
                </a:solidFill>
                <a:latin typeface="Calibri"/>
              </a:rPr>
              <a:t> </a:t>
            </a:r>
            <a:r>
              <a:rPr b="0" lang="fr-CA" sz="1400" spc="-1" strike="noStrike">
                <a:solidFill>
                  <a:srgbClr val="000000"/>
                </a:solidFill>
                <a:latin typeface="Arial"/>
              </a:rPr>
              <a:t>: tutorat individuel, apprentissage en petits groupes ou enseignement en class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ceux et celles qui veulent apprendre à se servir d’un ordinateur, le plan de formation peut inclure le développement de ces compétences. </a:t>
            </a:r>
            <a:endParaRPr b="0" lang="en-US" sz="14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i est admissible?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à tous ceux qui ne sont pas aux études et pouvant s’exprimer en anglais ou en français.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aux anglophones, aux francophones, aux Autochtones et aux personnes sourdes ou malentendantes.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Comment obtenir ces services?</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AFB sont offerts par plus de 200</a:t>
            </a:r>
            <a:r>
              <a:rPr b="0" lang="fr-CA" sz="1400" spc="-1" strike="noStrike">
                <a:solidFill>
                  <a:srgbClr val="000000"/>
                </a:solidFill>
                <a:latin typeface="Calibri"/>
              </a:rPr>
              <a:t> </a:t>
            </a:r>
            <a:r>
              <a:rPr b="0" lang="fr-CA" sz="1400" spc="-1" strike="noStrike">
                <a:solidFill>
                  <a:srgbClr val="000000"/>
                </a:solidFill>
                <a:latin typeface="Arial"/>
              </a:rPr>
              <a:t>organismes dans environ 300</a:t>
            </a:r>
            <a:r>
              <a:rPr b="0" lang="fr-CA" sz="1400" spc="-1" strike="noStrike">
                <a:solidFill>
                  <a:srgbClr val="000000"/>
                </a:solidFill>
                <a:latin typeface="Calibri"/>
              </a:rPr>
              <a:t> </a:t>
            </a:r>
            <a:r>
              <a:rPr b="0" lang="fr-CA" sz="1400" spc="-1" strike="noStrike">
                <a:solidFill>
                  <a:srgbClr val="000000"/>
                </a:solidFill>
                <a:latin typeface="Arial"/>
              </a:rPr>
              <a:t>emplacements répartis dans toute la provinc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trouver le nom d’un organisme offrant les services d’AFB dans votre région, appelez la Ligne d’information Emploi Ontario au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00</a:t>
            </a:r>
            <a:r>
              <a:rPr b="1" lang="fr-CA" sz="1400" spc="-1" strike="noStrike">
                <a:solidFill>
                  <a:srgbClr val="000000"/>
                </a:solidFill>
                <a:latin typeface="Calibri"/>
              </a:rPr>
              <a:t> </a:t>
            </a:r>
            <a:r>
              <a:rPr b="1" lang="fr-CA" sz="1400" spc="-1" strike="noStrike">
                <a:solidFill>
                  <a:srgbClr val="000000"/>
                </a:solidFill>
                <a:latin typeface="Arial"/>
              </a:rPr>
              <a:t>387-5656 </a:t>
            </a:r>
            <a:r>
              <a:rPr b="0" lang="fr-CA" sz="1400" spc="-1" strike="noStrike">
                <a:solidFill>
                  <a:srgbClr val="000000"/>
                </a:solidFill>
                <a:latin typeface="Arial"/>
              </a:rPr>
              <a:t>(ATS :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66</a:t>
            </a:r>
            <a:r>
              <a:rPr b="1" lang="fr-CA" sz="1400" spc="-1" strike="noStrike">
                <a:solidFill>
                  <a:srgbClr val="000000"/>
                </a:solidFill>
                <a:latin typeface="Calibri"/>
              </a:rPr>
              <a:t> </a:t>
            </a:r>
            <a:r>
              <a:rPr b="1" lang="fr-CA" sz="1400" spc="-1" strike="noStrike">
                <a:solidFill>
                  <a:srgbClr val="000000"/>
                </a:solidFill>
                <a:latin typeface="Arial"/>
              </a:rPr>
              <a:t>533-6339</a:t>
            </a:r>
            <a:r>
              <a:rPr b="0" lang="fr-CA"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Autres services d’Emploi Ontario offerts dans votre collectivité</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artenariats pour la création d’emplois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a:t>
            </a:r>
            <a:r>
              <a:rPr b="1" lang="fr-CA" sz="1800" spc="-1" strike="noStrike">
                <a:solidFill>
                  <a:srgbClr val="000000"/>
                </a:solidFill>
                <a:latin typeface="Arial"/>
              </a:rPr>
              <a:t> </a:t>
            </a:r>
            <a:r>
              <a:rPr b="0" lang="fr-CA" sz="1800" spc="-1" strike="noStrike">
                <a:solidFill>
                  <a:srgbClr val="000000"/>
                </a:solidFill>
                <a:latin typeface="Arial"/>
              </a:rPr>
              <a:t>programme d’emploi permet à des personnes à la recherche d’un emploi d’obtenir une expérience de travail dans le cadre de projets bénéfiques pour la collectivité ou l’économie locale.</a:t>
            </a:r>
            <a:endParaRPr b="0" lang="en-US" sz="18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restations d’aide au travail indépendant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s prestations fournissent un soutien au revenu et à l’entreprenariat aux personnes sans emploi qui sont admissibles à l’assurance-emploi ou qui l’ont été récemment, pendant qu’elles élaborent et mettent sur pied leur entrepris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EMPLOI ONTARIO</a:t>
            </a:r>
            <a:endParaRPr b="0" lang="en-US" sz="2400" spc="-1" strike="noStrike">
              <a:solidFill>
                <a:srgbClr val="000000"/>
              </a:solidFill>
              <a:latin typeface="Arial"/>
            </a:endParaRPr>
          </a:p>
        </p:txBody>
      </p:sp>
      <p:sp>
        <p:nvSpPr>
          <p:cNvPr id="56" name="PlaceHolder 2"/>
          <p:cNvSpPr>
            <a:spLocks noGrp="1"/>
          </p:cNvSpPr>
          <p:nvPr>
            <p:ph/>
          </p:nvPr>
        </p:nvSpPr>
        <p:spPr>
          <a:xfrm>
            <a:off x="395280" y="1268280"/>
            <a:ext cx="8229600" cy="4525920"/>
          </a:xfrm>
          <a:prstGeom prst="rect">
            <a:avLst/>
          </a:prstGeom>
          <a:noFill/>
          <a:ln w="0">
            <a:noFill/>
          </a:ln>
        </p:spPr>
        <p:txBody>
          <a:bodyPr anchor="t">
            <a:normAutofit fontScale="94000"/>
          </a:bodyPr>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aide les Ontariennes et les Ontariens à trouver du travail.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donne des conseils et des services personnalisés pour aider les gens à évaluer leurs compétences et leur expérience, à trouver du travail et à se lancer sur la voie de la formation professionnelle.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Développer de nouvelles compétence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Parlez à un conseiller professionnel qui vous aidera à planifier votre carrière, à suivre une formation et à trouver du travail grâce au programme des services d’emplo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ouver un emploi</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s pouvez  consulter les emplois offerts en Ontario dans le site Guichet emplois (http://www.guichetemplois.gc.ca).</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nder une entrepri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Le programme de prestations d’aide au travail indépendant de l’Ontario pourrait vous aider à devenir votre propre patron.</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Programmes d’alphabétisation et de formation de ba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Ces programmes offrent des services qui permettent aux apprenants de parfaire leurs compétences en lecture, en écriture, en mathématiques et dans d’autres domaines essentiels à l’atteinte de leurs objectifs.</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rmation en apprentissag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us rêvez d’un métier spécialisé? Emploi Ontario offre des services partout en province pour vous aider à devenir apprentie ou apprent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availleurs âgé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Si votre région a été durement frappée par la récession et que vous avez entre 55 et 64</a:t>
            </a:r>
            <a:r>
              <a:rPr b="0" lang="fr-CA" sz="1400" spc="-1" strike="noStrike">
                <a:solidFill>
                  <a:srgbClr val="000000"/>
                </a:solidFill>
                <a:latin typeface="Calibri"/>
              </a:rPr>
              <a:t> </a:t>
            </a:r>
            <a:r>
              <a:rPr b="0" lang="fr-CA" sz="1400" spc="-1" strike="noStrike">
                <a:solidFill>
                  <a:srgbClr val="000000"/>
                </a:solidFill>
                <a:latin typeface="Arial"/>
              </a:rPr>
              <a:t>ans, les Initiatives ciblées pour les travailleurs âgés peuvent vous aider.</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Comment trouver des services dans votre localité</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ultez le site Web d’Emploi Ontario </a:t>
            </a:r>
            <a:r>
              <a:rPr b="0" lang="fr-CA" sz="1800" spc="-1" strike="noStrike" u="sng">
                <a:solidFill>
                  <a:srgbClr val="009999"/>
                </a:solidFill>
                <a:uFillTx/>
                <a:latin typeface="Arial"/>
                <a:hlinkClick r:id="rId1"/>
              </a:rPr>
              <a:t>http://www.edu.gov.on.ca/fre/tcu/employmentontar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 site contient une rubrique </a:t>
            </a:r>
            <a:r>
              <a:rPr b="1" lang="fr-CA" sz="1800" spc="-1" strike="noStrike" u="sng">
                <a:solidFill>
                  <a:srgbClr val="000000"/>
                </a:solidFill>
                <a:uFillTx/>
                <a:latin typeface="Arial"/>
              </a:rPr>
              <a:t>Trouvez des services dans votre région</a:t>
            </a:r>
            <a:r>
              <a:rPr b="1" lang="fr-CA" sz="1800" spc="-1" strike="noStrike">
                <a:solidFill>
                  <a:srgbClr val="000000"/>
                </a:solidFill>
                <a:latin typeface="Arial"/>
              </a:rPr>
              <a:t> </a:t>
            </a:r>
            <a:r>
              <a:rPr b="0" lang="fr-CA" sz="1800" spc="-1" strike="noStrike">
                <a:solidFill>
                  <a:srgbClr val="000000"/>
                </a:solidFill>
                <a:latin typeface="Arial"/>
              </a:rPr>
              <a:t>pour vous aider à trouver les services offerts dans votre communaut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parler à un intervenant, appelez la Ligne d’information d’Emploi Ontario au numéro sans frais </a:t>
            </a:r>
            <a:r>
              <a:rPr b="1" lang="fr-CA" sz="1800" spc="-1" strike="noStrike">
                <a:solidFill>
                  <a:srgbClr val="000000"/>
                </a:solidFill>
                <a:latin typeface="Arial"/>
              </a:rPr>
              <a:t>1</a:t>
            </a:r>
            <a:r>
              <a:rPr b="1" lang="fr-CA" sz="1800" spc="-1" strike="noStrike">
                <a:solidFill>
                  <a:srgbClr val="000000"/>
                </a:solidFill>
                <a:latin typeface="Calibri"/>
              </a:rPr>
              <a:t> </a:t>
            </a:r>
            <a:r>
              <a:rPr b="1" lang="fr-CA" sz="1800" spc="-1" strike="noStrike">
                <a:solidFill>
                  <a:srgbClr val="000000"/>
                </a:solidFill>
                <a:latin typeface="Arial"/>
              </a:rPr>
              <a:t>800</a:t>
            </a:r>
            <a:r>
              <a:rPr b="1" lang="fr-CA" sz="1800" spc="-1" strike="noStrike">
                <a:solidFill>
                  <a:srgbClr val="000000"/>
                </a:solidFill>
                <a:latin typeface="Calibri"/>
              </a:rPr>
              <a:t> </a:t>
            </a:r>
            <a:r>
              <a:rPr b="1" lang="fr-CA" sz="1800" spc="-1" strike="noStrike">
                <a:solidFill>
                  <a:srgbClr val="000000"/>
                </a:solidFill>
                <a:latin typeface="Arial"/>
              </a:rPr>
              <a:t>387­5656 (ATS : 416</a:t>
            </a:r>
            <a:r>
              <a:rPr b="1" lang="fr-CA" sz="1800" spc="-1" strike="noStrike">
                <a:solidFill>
                  <a:srgbClr val="000000"/>
                </a:solidFill>
                <a:latin typeface="Calibri"/>
              </a:rPr>
              <a:t> </a:t>
            </a:r>
            <a:r>
              <a:rPr b="1" lang="fr-CA" sz="1800" spc="-1" strike="noStrike">
                <a:solidFill>
                  <a:srgbClr val="000000"/>
                </a:solidFill>
                <a:latin typeface="Arial"/>
              </a:rPr>
              <a:t>325­4084).</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Object 4"/>
          <p:cNvGraphicFramePr/>
          <p:nvPr/>
        </p:nvGraphicFramePr>
        <p:xfrm>
          <a:off x="1981080" y="533520"/>
          <a:ext cx="5486400" cy="5478480"/>
        </p:xfrm>
        <a:graphic>
          <a:graphicData uri="http://schemas.openxmlformats.org/presentationml/2006/ole">
            <p:oleObj r:id="rId1" spid="">
              <p:embed/>
              <p:pic>
                <p:nvPicPr>
                  <p:cNvPr id="98" name="Object 4" descr=""/>
                  <p:cNvPicPr/>
                  <p:nvPr/>
                </p:nvPicPr>
                <p:blipFill>
                  <a:blip r:embed="rId2"/>
                  <a:stretch/>
                </p:blipFill>
                <p:spPr>
                  <a:xfrm>
                    <a:off x="1981080" y="533520"/>
                    <a:ext cx="5486400" cy="547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Au sujet de la transformation d’Emploi Ontario</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ministère de la Formation et des Collèges et Universités (MFCU) a entrepris la transformation d’Emploi Ontario afin d’en faire un réseau de prestation de services axé sur les clients, intégré et fondé sur les résulta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s clients, cela signifie qu’ils recevront des services efficaces et pertinents de formation professionnelle, d’emploi et de planification de carrière, à l’endroit et au moment où ils en auront bes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8458200" cy="117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CA" sz="3200" spc="-1" strike="noStrike">
                <a:solidFill>
                  <a:srgbClr val="000000"/>
                </a:solidFill>
                <a:latin typeface="Arial"/>
              </a:rPr>
              <a:t>Qu'accomplira Emploi Ontario après la refonte?</a:t>
            </a:r>
            <a:br>
              <a:rPr sz="3200"/>
            </a:b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50292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mploi Ontario sera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lients - ceux-ci seront au centre de la prestation des services et obtiendront de meilleurs résultat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fournisseurs de services de soutien - grâce à la refonte d'Emploi Ontario, ils seront davantage axés sur le service à la clientèl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ontribuables - efficacité accrue, meilleure coordination et moins de dédoublements.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es clients profiteront de formations efficaces et pertinentes sur les compétences et auront accès à des services d'emploi et de planification de carrière, là où ils en auront besoin et au moment opportu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Object 4"/>
          <p:cNvGraphicFramePr/>
          <p:nvPr/>
        </p:nvGraphicFramePr>
        <p:xfrm>
          <a:off x="304920" y="380880"/>
          <a:ext cx="8381880" cy="6477120"/>
        </p:xfrm>
        <a:graphic>
          <a:graphicData uri="http://schemas.openxmlformats.org/presentationml/2006/ole">
            <p:oleObj r:id="rId1" spid="">
              <p:embed/>
              <p:pic>
                <p:nvPicPr>
                  <p:cNvPr id="62" name="Object 4" descr=""/>
                  <p:cNvPicPr/>
                  <p:nvPr/>
                </p:nvPicPr>
                <p:blipFill>
                  <a:blip r:embed="rId2"/>
                  <a:stretch/>
                </p:blipFill>
                <p:spPr>
                  <a:xfrm>
                    <a:off x="304920" y="380880"/>
                    <a:ext cx="838188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ournisseurs de services du réseau Emploi Ontario offrent des services aux personnes qui ont besoin d’aide pour décrocher un emploi et le conserver.  Un guichet unique permet d’offrir tous les services, et ce, partout en Ontari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 réseau Emploi Ontario comprend 174 fournisseurs qui offrent des services d’emploi à 434 emplacements dans la provinc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lients ont accès à la recherche d’emploi, à des services de placement et à des incitatifs, à de la formation sur le maintien de l’emploi, à des services d’information et d’orientation ainsi qu’à la planification et à la coordination des services en un point d’accès commu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trouver le fournisseur de services de votre région, veuillez consulter le site Web http://www.edu.gov.on.ca/fre/tcu/search.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6" name="Rectangle 4"/>
          <p:cNvSpPr/>
          <p:nvPr/>
        </p:nvSpPr>
        <p:spPr>
          <a:xfrm>
            <a:off x="468360" y="1413000"/>
            <a:ext cx="8351640" cy="55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services suivants sont disponible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valuation de vos compétences et de votre expérience,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cquisition de stratégies efficaces en recherche d’emploi, dont la préparation du curriculum vitæ,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s différents métiers et professions,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 marché de l’emploi local, les possibilités d’emploi et de formation,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nsemble des programmes et services d’Emploi Ontario, dont Deuxième carrièr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eils sur les autres services et soutiens communautaires de même qu’un service d’aiguillag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conseillère ou un conseiller détermine, à partir des besoins et des buts particuliers que vous avez, s’il faut vous accorder une aide et un soutien plus personnalisés pour bâtir une carrière, fixer des objectifs, évaluer vos compétences et vos intérêts et vous préparer pour les entrevues et le travai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pourriez être admissible à un soutien pour une formation en milieu de travail ou une expérience de travail et même, dans certains cas, à un soutien supplémentaire pour conserver votre emplo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entre ville d’Ottaw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4" descr="Downtown-markers"/>
          <p:cNvPicPr/>
          <p:nvPr/>
        </p:nvPicPr>
        <p:blipFill>
          <a:blip r:embed="rId1"/>
          <a:stretch/>
        </p:blipFill>
        <p:spPr>
          <a:xfrm>
            <a:off x="179280" y="1147680"/>
            <a:ext cx="8640720" cy="5450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sud</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4" descr="South-markers"/>
          <p:cNvPicPr/>
          <p:nvPr/>
        </p:nvPicPr>
        <p:blipFill>
          <a:blip r:embed="rId1"/>
          <a:stretch/>
        </p:blipFill>
        <p:spPr>
          <a:xfrm>
            <a:off x="412920" y="1366920"/>
            <a:ext cx="8407080" cy="5230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5T17:19:02Z</dcterms:created>
  <dc:creator>Mitrow Carolyn</dc:creator>
  <dc:description/>
  <dc:language>en-US</dc:language>
  <cp:lastModifiedBy>tl</cp:lastModifiedBy>
  <dcterms:modified xsi:type="dcterms:W3CDTF">2011-06-28T14:52:27Z</dcterms:modified>
  <cp:revision>12</cp:revision>
  <dc:subject/>
  <dc:title>Programmes et services  d’emploi  de l’Ontario</dc:title>
</cp:coreProperties>
</file>